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C6EF-A275-4863-9C04-04F308DFB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C530-E6BB-4E8E-8D5B-DEBA50044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4DEF-09C0-4521-BABC-03F109CCD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0699-5807-4696-BA69-DECB9FBBA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FB1C-A83F-4A38-BDE2-AA48AA6EA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CA69-AF73-40B7-93F8-0CA6E699D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1E27-27DF-4833-AA43-AE2316907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D9EA-36C4-4026-93D3-60DA1DB4C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4B10-B5D1-4BFE-BAB9-0B88681EA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0CFF-85FD-4E4E-8973-0B0AD39FB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D7FE-633E-4A0B-8BE0-EC6940F3F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1E69-2A31-4958-8A33-4B47D308D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49D-D073-4A8C-81CA-57905FC45C8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8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a Post-Closing Trial Balanc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LEDGER ACCOUNTS AFTER ADJUSTING AND CLOSING ENTRI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O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600200"/>
            <a:ext cx="8534160" cy="4183200"/>
            <a:chOff x="304920" y="1600200"/>
            <a:chExt cx="8534160" cy="4183200"/>
          </a:xfrm>
        </p:grpSpPr>
        <p:pic>
          <p:nvPicPr>
            <p:cNvPr id="93" name="C21_blue_0815" descr=""/>
            <p:cNvPicPr/>
            <p:nvPr/>
          </p:nvPicPr>
          <p:blipFill>
            <a:blip r:embed="rId1"/>
            <a:srcRect l="0" t="0" r="1165" b="0"/>
            <a:stretch/>
          </p:blipFill>
          <p:spPr>
            <a:xfrm>
              <a:off x="304920" y="1600200"/>
              <a:ext cx="2651040" cy="29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C21_blue_0817" descr=""/>
            <p:cNvPicPr/>
            <p:nvPr/>
          </p:nvPicPr>
          <p:blipFill>
            <a:blip r:embed="rId2"/>
            <a:srcRect l="0" t="5419" r="3415" b="2381"/>
            <a:stretch/>
          </p:blipFill>
          <p:spPr>
            <a:xfrm>
              <a:off x="6087960" y="1600200"/>
              <a:ext cx="275112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C21_blue_0816" descr=""/>
            <p:cNvPicPr/>
            <p:nvPr/>
          </p:nvPicPr>
          <p:blipFill>
            <a:blip r:embed="rId3"/>
            <a:srcRect l="4859" t="0" r="4859" b="0"/>
            <a:stretch/>
          </p:blipFill>
          <p:spPr>
            <a:xfrm>
              <a:off x="3117960" y="1600200"/>
              <a:ext cx="2806560" cy="41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1F1A-E6C8-4BDF-AE3E-FF0FBCD197A5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6560" y="476568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6560" y="44006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6560" y="403560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6560" y="336564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6560" y="30002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6560" y="233028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6560" y="19652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6560" y="160020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LOSING TRIAL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C21_blue_0818" descr=""/>
          <p:cNvPicPr/>
          <p:nvPr/>
        </p:nvPicPr>
        <p:blipFill>
          <a:blip r:embed="rId1"/>
          <a:srcRect l="1246" t="0" r="1246" b="0"/>
          <a:stretch/>
        </p:blipFill>
        <p:spPr>
          <a:xfrm>
            <a:off x="685800" y="1600200"/>
            <a:ext cx="5562720" cy="3524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419720" y="1905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648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1000" y="2763720"/>
            <a:ext cx="417240" cy="1828800"/>
            <a:chOff x="351000" y="2763720"/>
            <a:chExt cx="417240" cy="1828800"/>
          </a:xfrm>
        </p:grpSpPr>
        <p:sp>
          <p:nvSpPr>
            <p:cNvPr id="110" name=""/>
            <p:cNvSpPr/>
            <p:nvPr/>
          </p:nvSpPr>
          <p:spPr>
            <a:xfrm>
              <a:off x="539640" y="2763720"/>
              <a:ext cx="228600" cy="1828800"/>
            </a:xfrm>
            <a:custGeom>
              <a:avLst/>
              <a:gdLst/>
              <a:ahLst/>
              <a:rect l="l" t="t" r="r" b="b"/>
              <a:pathLst>
                <a:path w="192" h="1632">
                  <a:moveTo>
                    <a:pt x="192" y="1632"/>
                  </a:moveTo>
                  <a:lnTo>
                    <a:pt x="0" y="1632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51000" y="3529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172200" y="2743200"/>
            <a:ext cx="457200" cy="1828800"/>
            <a:chOff x="6172200" y="2743200"/>
            <a:chExt cx="457200" cy="1828800"/>
          </a:xfrm>
        </p:grpSpPr>
        <p:sp>
          <p:nvSpPr>
            <p:cNvPr id="113" name=""/>
            <p:cNvSpPr/>
            <p:nvPr/>
          </p:nvSpPr>
          <p:spPr>
            <a:xfrm>
              <a:off x="6172200" y="2743200"/>
              <a:ext cx="228600" cy="1828800"/>
            </a:xfrm>
            <a:custGeom>
              <a:avLst/>
              <a:gdLst/>
              <a:ahLst/>
              <a:rect l="l" t="t" r="r" b="b"/>
              <a:pathLst>
                <a:path w="432" h="1152">
                  <a:moveTo>
                    <a:pt x="0" y="0"/>
                  </a:moveTo>
                  <a:lnTo>
                    <a:pt x="432" y="0"/>
                  </a:lnTo>
                  <a:lnTo>
                    <a:pt x="432" y="1152"/>
                  </a:lnTo>
                  <a:lnTo>
                    <a:pt x="0" y="1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18280" y="35053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76720" y="4703760"/>
            <a:ext cx="1143000" cy="1117440"/>
            <a:chOff x="3276720" y="4703760"/>
            <a:chExt cx="1143000" cy="1117440"/>
          </a:xfrm>
        </p:grpSpPr>
        <p:sp>
          <p:nvSpPr>
            <p:cNvPr id="116" name=""/>
            <p:cNvSpPr/>
            <p:nvPr/>
          </p:nvSpPr>
          <p:spPr>
            <a:xfrm>
              <a:off x="3505320" y="47037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576" y="0"/>
                  </a:moveTo>
                  <a:lnTo>
                    <a:pt x="0" y="0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410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63920" y="4943520"/>
            <a:ext cx="1828800" cy="466560"/>
            <a:chOff x="4363920" y="4943520"/>
            <a:chExt cx="1828800" cy="466560"/>
          </a:xfrm>
        </p:grpSpPr>
        <p:sp>
          <p:nvSpPr>
            <p:cNvPr id="119" name=""/>
            <p:cNvSpPr/>
            <p:nvPr/>
          </p:nvSpPr>
          <p:spPr>
            <a:xfrm>
              <a:off x="4363920" y="4943520"/>
              <a:ext cx="1828800" cy="30492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lnTo>
                    <a:pt x="0" y="192"/>
                  </a:lnTo>
                  <a:lnTo>
                    <a:pt x="1152" y="192"/>
                  </a:lnTo>
                  <a:lnTo>
                    <a:pt x="1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3480" y="4998960"/>
              <a:ext cx="41148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41960" y="4821120"/>
            <a:ext cx="487080" cy="1249200"/>
            <a:chOff x="6141960" y="4821120"/>
            <a:chExt cx="487080" cy="1249200"/>
          </a:xfrm>
        </p:grpSpPr>
        <p:sp>
          <p:nvSpPr>
            <p:cNvPr id="122" name=""/>
            <p:cNvSpPr/>
            <p:nvPr/>
          </p:nvSpPr>
          <p:spPr>
            <a:xfrm>
              <a:off x="6141960" y="4821120"/>
              <a:ext cx="304560" cy="1143000"/>
            </a:xfrm>
            <a:custGeom>
              <a:avLst/>
              <a:gdLst/>
              <a:ahLst/>
              <a:rect l="l" t="t" r="r" b="b"/>
              <a:pathLst>
                <a:path w="192" h="720">
                  <a:moveTo>
                    <a:pt x="0" y="0"/>
                  </a:moveTo>
                  <a:lnTo>
                    <a:pt x="192" y="0"/>
                  </a:lnTo>
                  <a:lnTo>
                    <a:pt x="192" y="7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7920" y="5659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19320" y="1905120"/>
            <a:ext cx="3276360" cy="2666520"/>
            <a:chOff x="1219320" y="1905120"/>
            <a:chExt cx="3276360" cy="2666520"/>
          </a:xfrm>
        </p:grpSpPr>
        <p:sp>
          <p:nvSpPr>
            <p:cNvPr id="125" name=""/>
            <p:cNvSpPr/>
            <p:nvPr/>
          </p:nvSpPr>
          <p:spPr>
            <a:xfrm flipH="1" flipV="1">
              <a:off x="1447920" y="2133360"/>
              <a:ext cx="304776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1905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1645-E0FB-4D52-8B39-004E3797020E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21_grn_0819" descr=""/>
          <p:cNvPicPr/>
          <p:nvPr/>
        </p:nvPicPr>
        <p:blipFill>
          <a:blip r:embed="rId1"/>
          <a:stretch/>
        </p:blipFill>
        <p:spPr>
          <a:xfrm>
            <a:off x="301680" y="1425600"/>
            <a:ext cx="4825800" cy="4825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ING CYCLE FOR A SERVIC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0574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191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00560" y="52545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81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1828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038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43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5073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post-closing tria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43974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adjusting and clos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730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adjusting and clos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3060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inancial stat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698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work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327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9652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s trans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2A34-E454-4A88-B337-187AF5C8CF1C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closing tria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36A4-4A4B-489A-B37F-B0C005A7E8E1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M. C. McLaughlin</cp:lastModifiedBy>
  <dcterms:modified xsi:type="dcterms:W3CDTF">2005-04-22T18:10:59Z</dcterms:modified>
  <cp:revision>25</cp:revision>
  <dc:subject/>
  <dc:title>Lesson 8-1</dc:title>
</cp:coreProperties>
</file>